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924E-998B-42D3-A2B2-95DD85DC4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 PRESENTATION  REPORT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PATHOLO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OF  RAJASTHAN, JAIP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MITTED TO 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Final yr. (2010-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uman lal kumaw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Biotech.(i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 PRESENTATION  REPORT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PATHOLO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OF  RAJASTHAN, JAIP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MITTED TO 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Final yr. (2010-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uman lal kumaw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Biotech.(i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bnormal Results Mean patient have a blood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bnormal Results Mean patient have a blood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Sincerely Paying Attention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Sincerely Paying Attention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Hospital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spital Lab is a place where blood and other biological fluid is collected, tested and Resulted for pathology and dise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Hospital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spital Lab is a place where blood and other biological fluid is collected, tested and Resulted for pathology and dise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test is a lab analysis performed on a blood  sample that is usually extracted from a vein in the arm using a needle, or via fingerp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test is a lab analysis performed on a blood  sample that is usually extracted from a vein in the arm using a needle, or via fingerp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bloo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chemical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bloo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chemical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nalysis blood compositions for prevention of  blood die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nalysis blood compositions for prevention of  blood die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blood sample col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collection performed using a vaca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is drawn from a vein (venipuncture), usually from the inside of the elbow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k of the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blood sample col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collection performed using a vaca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is drawn from a vein (venipuncture), usually from the inside of the elbow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k of the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ing Te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-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ing Te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-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: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 not obser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latelets per microli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–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and 125 mg/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: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 not obser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latelets per microli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–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and 125 mg/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or Normal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M ratio 1: 160  IgG ratio 1:4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 not fa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or Normal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M ratio 1: 160  IgG ratio 1:4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 not fa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4B8-757A-43D5-B033-628C515A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7061-8E70-4DDF-81FB-73453E0D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8DF-3E30-489B-A985-44E8241E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85A9-27E0-4F88-B2C1-B213A095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86E6-E814-4860-A915-C3176864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F02D-E3C2-46A4-B2A9-5EC13136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13ED-D8AE-4D74-8AD2-D60E7EB2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71E9-FC21-4B98-983B-149E91C6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095A-3F07-4A7D-88B2-BC27A006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D914-CDF8-42A0-9EDA-3FC4A40A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DA79-8525-4306-AF26-315E1E50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B089-2D26-4ECF-A2B3-E3FEBB6B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C6F2-4909-4080-BA5A-000D3D2D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7DE9-D110-49A5-A9FE-810914BC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F672-6251-4A6A-A673-E00CB0E1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7180-E455-489B-85B8-5410C27C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6342-81DC-44D8-90B7-187C4190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66C1B-1FE4-4033-93D6-1DD5D6AE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2BED4-B56C-456A-8CF0-34687BF6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96BCA-29A7-48B8-B9BC-9950964B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5F8A4-016F-4888-838E-E5FF931C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32B21-735A-4536-9932-0EDF5921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C41-F4B2-494D-99E1-DC46C40D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9141D-00D5-4368-B83F-DCB76090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9B166-5882-493B-8326-CB8A01F4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DE23A-7F20-4DE2-828B-09A4CCB9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7DCEA-5A4B-4C84-8715-1297B88F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AA6E0-36CE-41EA-AE8D-F7207F0D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34865-AD27-446F-949A-ECC8736C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B6237-4B96-434A-8FC1-EFA4D1C1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FA66E-F3BA-4540-840F-E6965878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894DE-D95E-464B-AB53-F911DA0C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8BC20-A766-4B81-8B7F-DBEB9FDD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AFC1-506A-4954-AB26-F3915EF1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E623E-9E9C-44A2-8DA4-C29EDBC8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E06C7-40C5-4380-8112-A7BD9247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DD043-1FF9-4F6B-8914-BC9D3E12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167C5-9659-4386-B1B8-3C3EF441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EBBD4-CA02-4F7D-88E4-7D6F9243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2556F-8E91-46A7-BAB8-541A419D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1AC18-4902-4210-8BD7-A2395A5A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23D88-1303-445A-8CA3-389C8A05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51B41-96F6-438A-B31B-8E6F7FA9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616-4B41-483A-9915-9112AE15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2A11-5772-41E6-B42E-82FA4553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39B-7D74-4046-A140-275422EE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F00-5C08-42B5-81AB-24D8FC0F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8D9-FB7A-4A69-A018-11308673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0690-9D7D-49A2-958F-B4FAAE2C372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E184-903E-4B3E-BC7F-AAA7A25D7E56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A499-9BF9-40FE-9D4C-21EC7E7DD1E1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4C0C-DD71-405F-B4F2-CD1E15BFDD8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5"/>
          <p:cNvSpPr/>
          <p:nvPr/>
        </p:nvSpPr>
        <p:spPr>
          <a:xfrm>
            <a:off x="1975680" y="0"/>
            <a:ext cx="493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 PRESENTATION  REPOR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OOD PATHOLOGY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1401840" y="26668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 RAJASTHAN, JAIP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1600200" y="3124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C:\Documents and Settings\BABALU\My Documents\logo2.gif"/>
          <p:cNvPicPr/>
          <p:nvPr/>
        </p:nvPicPr>
        <p:blipFill>
          <a:blip r:embed="rId1"/>
          <a:stretch/>
        </p:blipFill>
        <p:spPr>
          <a:xfrm>
            <a:off x="3352680" y="68580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6"/>
          <p:cNvSpPr/>
          <p:nvPr/>
        </p:nvSpPr>
        <p:spPr>
          <a:xfrm>
            <a:off x="3282480" y="23623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MITTED TO 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2973600" y="3124080"/>
            <a:ext cx="274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.Sc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yr. (2010-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2892240" y="4648320"/>
            <a:ext cx="2792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anuman lal kumaw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.Sc. Biotech.(i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nal 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7"/>
          <p:cNvSpPr/>
          <p:nvPr/>
        </p:nvSpPr>
        <p:spPr>
          <a:xfrm>
            <a:off x="2962080" y="365760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CONCL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Any Abnormal Results Mean patient have a blood disorder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sdwddd"/>
          <p:cNvPicPr/>
          <p:nvPr/>
        </p:nvPicPr>
        <p:blipFill>
          <a:blip r:embed="rId1"/>
          <a:stretch/>
        </p:blipFill>
        <p:spPr>
          <a:xfrm>
            <a:off x="0" y="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1295280" y="502920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Hobo Std"/>
                <a:ea typeface="Arial"/>
              </a:rPr>
              <a:t>Thank You For Sincerely Paying Attention…</a:t>
            </a:r>
            <a:r>
              <a:rPr b="0" lang="en-US" sz="2400" spc="-1" strike="noStrike">
                <a:solidFill>
                  <a:srgbClr val="ffffff"/>
                </a:solidFill>
                <a:latin typeface="Hobo St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</a:rPr>
              <a:t>About Hospital Lab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13372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nstantia"/>
                <a:ea typeface="Times New Roman"/>
              </a:rPr>
              <a:t>A Hospital Lab is a place where blood and other biological fluid is collected, tested and Resulted for pathology and dises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A 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blood test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 is a lab analysis performed on a blood  sample that is usually extracted from a vein in the arm using a needle, or via fingerprick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Types of blood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Biochemical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Molecular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Cellular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OBJECTI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To analysis blood compositions for prevention of  blood dieses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ff0000"/>
                </a:solidFill>
                <a:uFillTx/>
                <a:latin typeface="Calibri"/>
              </a:rPr>
              <a:t>Process of blood sample collectio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20574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Blood sample collection performed using a vacatio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Blood is drawn from a vein (venipuncture), usually from the inside of the elbow o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the back of the ha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101680" cy="1569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6324480" y="327672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</a:rPr>
              <a:t>Involving Test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82844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omplete blood cou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 cul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 fil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Platelet cou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Glucose test - blo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Widal Te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ELI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mmonium 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5791320" y="2971800"/>
            <a:ext cx="3047760" cy="1600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5791320" y="4572000"/>
            <a:ext cx="3047760" cy="2031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widal-test-300x225"/>
          <p:cNvPicPr/>
          <p:nvPr/>
        </p:nvPicPr>
        <p:blipFill>
          <a:blip r:embed="rId3"/>
          <a:stretch/>
        </p:blipFill>
        <p:spPr>
          <a:xfrm>
            <a:off x="5791320" y="1143000"/>
            <a:ext cx="26240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RESULTS of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4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omplete blood count:-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Blood cul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icrobes not observ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latelet cou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150,000 to 400,000 platelets per microlit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Glucose test – bl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100 and 125 mg/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RESULTS for Normal Blo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Widal Te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IgM ratio 1: 160  IgG ratio 1:40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ELI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Antigens not faun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mmonium 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ot prese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0:13:04Z</dcterms:created>
  <dc:creator>user</dc:creator>
  <dc:description/>
  <dc:language>en-US</dc:language>
  <cp:lastModifiedBy>RomaK</cp:lastModifiedBy>
  <dcterms:modified xsi:type="dcterms:W3CDTF">2015-09-04T10:54:25Z</dcterms:modified>
  <cp:revision>77</cp:revision>
  <dc:subject/>
  <dc:title>URINARY TRACT INFECTION</dc:title>
</cp:coreProperties>
</file>